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8AB26-674A-4FBF-B5E6-57788684CE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2066760" y="324000"/>
            <a:ext cx="2941920" cy="2206440"/>
          </a:xfrm>
          <a:prstGeom prst="rect">
            <a:avLst/>
          </a:prstGeom>
          <a:ln w="0">
            <a:noFill/>
          </a:ln>
        </p:spPr>
      </p:sp>
      <p:sp>
        <p:nvSpPr>
          <p:cNvPr id="132"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вед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то отметил однажды, что двенадцать учеников были простыми мужчинами, способными силой Божьей совершать экстраординарные действ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все полагаем, что это правда. Однако, Библия также полна исполненных духом женщин, женщин сильных в Боге, женщин, успех которых равен успеху мужчин-руководителей, которые совершали успешную работу и проявляли лидерские качества. И то, что сделали эти женщины более, чем чудесно, потому что их статус был очень низким, даже ниже чем у этих «простых мужчин».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body"/>
          </p:nvPr>
        </p:nvSpPr>
        <p:spPr>
          <a:xfrm>
            <a:off x="685800" y="394920"/>
            <a:ext cx="5486400" cy="806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ристос всегда с глубоким уважением ценил женщин. Даже тех женщин, которые считались отбросами общества, а некоторых из них не уважали даже апостолы. Следовательно, благодаря примеру Иисуса Христа, поднявшему статус женщин, не удивительно, что они стали выдающимися в служении в ранней церкв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нь Пятидесятницы, когда родилась церковь Нового Завета, женщины были главными апостолами, совершавшими молитвы (Деян. 1:12-14). Некоторые женщины известны добрыми делами, а другие пониманием доктрин и духовными дарами (Деян. 18:26, 21:8,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орое послание Иоанна было адресовано выдающимся женщинам в одной из церквей, которая находилась на его попечении. Апостол Павел, который иногда не понимал и обвинял мужской шовинизм, постоянно совершал служение с женщинами (Фил. 4:3).</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004840" y="468360"/>
            <a:ext cx="2846520" cy="2135160"/>
          </a:xfrm>
          <a:prstGeom prst="rect">
            <a:avLst/>
          </a:prstGeom>
          <a:ln w="0">
            <a:noFill/>
          </a:ln>
        </p:spPr>
      </p:sp>
      <p:sp>
        <p:nvSpPr>
          <p:cNvPr id="150"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только христианство начало влиять на местную культуру, статус женщин значительно возрос. Один из церковных историков, Тертуллиан, написал, что женщины-язычники, которые детально разрабатывали орнамент для прически, непристойной одежды и боди-арта, в действительности, испытывали давление со стороны общества и моды, и должны были отказаться от своей первозданной женственности</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заметил это благодаря контрасту, когда Христианская церковь возросла и евангелие стало приносить плоды, одним из видимых результатов христианства была попытка сделать одежду женщины благопристойной и возвысить статус женщины. Тертуллиан пишет, что мужчины-язычники постоянно жаловались: «После того, как она (жена) стала христианкой, она стала беднее одеваться». Очевидно, мужчины-язычники осознавали, что христианство рассматривает женщин не только, как сексуальный символ или предмет дешевой утвар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видно, что первые женщины христианки возвысили достоинство женщин на такую беспрецедентную высоту, что даже язычники это осознали. Крисостом, красноречивый проповедник четвертого века пишет, что один из его учителей, языческий философ по имени Либанус однажды сказал: «Какие же они женщины-христиа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тантин обратился в христианство в 312 г., и христианство получило легальный статус в Риме и вскоре стало главенствующей религией в Европе. Одним из ранних результатов христианства является полностью новый статус женщин. Рим принял законы, признающие права женщин. Было пересмотрено семейное законодательство, таким образом, просто партнерство мужчины и женщины приобрело незаконный статус. И, если мы изучим данный вопрос тщательнее, мы увидим, что на протяжении всей истории везде, где распространялось евангелие, происходили подобные перемены.</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959120" y="395280"/>
            <a:ext cx="2939760" cy="2206800"/>
          </a:xfrm>
          <a:prstGeom prst="rect">
            <a:avLst/>
          </a:prstGeom>
          <a:ln w="0">
            <a:noFill/>
          </a:ln>
        </p:spPr>
      </p:sp>
      <p:sp>
        <p:nvSpPr>
          <p:cNvPr id="152" name="PlaceHolder 2"/>
          <p:cNvSpPr>
            <a:spLocks noGrp="1"/>
          </p:cNvSpPr>
          <p:nvPr>
            <p:ph type="body"/>
          </p:nvPr>
        </p:nvSpPr>
        <p:spPr>
          <a:xfrm>
            <a:off x="685800" y="2700000"/>
            <a:ext cx="5486400" cy="5614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целом, там, где евангелие успешно проповедуется, возвышается социальный, юридический и духовный статус женщин. Печально, когда это изменяющее евангелие игнорируется или тускнеет, будь-то под давлением ложной религии, секуляризма, гуманистической философии или духовного падения церкви, то соответственно падает и статус женщин. Важно помнить, что христианство ценит и  утверждает таланты и духовные дары женщин, их руководящий потенциал, дарованный Христо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070000" y="395280"/>
            <a:ext cx="2845080" cy="2135160"/>
          </a:xfrm>
          <a:prstGeom prst="rect">
            <a:avLst/>
          </a:prstGeom>
          <a:ln w="0">
            <a:noFill/>
          </a:ln>
        </p:spPr>
      </p:sp>
      <p:sp>
        <p:nvSpPr>
          <p:cNvPr id="15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примеры руковод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вайте теперь рассмотрим Библейские примеры руководства.</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112840" y="179280"/>
            <a:ext cx="2560680" cy="1920960"/>
          </a:xfrm>
          <a:prstGeom prst="rect">
            <a:avLst/>
          </a:prstGeom>
          <a:ln w="0">
            <a:noFill/>
          </a:ln>
        </p:spPr>
      </p:sp>
      <p:sp>
        <p:nvSpPr>
          <p:cNvPr id="156" name="PlaceHolder 2"/>
          <p:cNvSpPr>
            <a:spLocks noGrp="1"/>
          </p:cNvSpPr>
          <p:nvPr>
            <p:ph type="body"/>
          </p:nvPr>
        </p:nvSpPr>
        <p:spPr>
          <a:xfrm>
            <a:off x="685800" y="2123640"/>
            <a:ext cx="5695920" cy="5614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Деворы (Судей 4-5 глав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ерихон был разрушен 200 лет назад. Израильтяне разбрелись по стране как стая саранчи, сметая все на своем пути, но кое-как местные жители старались выживать и, подобно сорной траве с крепкими корнями, их идолопоклонство все еще распространялось и начало пошатывать израильскую вер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ав и Иисус Навин были израильскими рабами, побежденными войнами. На протяжении двадцати лет они были безжалостно угнетаемы Иавином, царем Ханаанским. Его главного военачальника звали Сисара. У Сисары было 900 железных колесниц, которые наводили ужас на израильтян. В наши дни эти колесницы были бы равны девятистам огромным армейским танкам. Сисера, возможно, чувствовал себя вполне уверенно и самонадеянно, особенно, с тех пор, как во главе Израиля встала женщина – Девор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ора была пророчицей, которая судила под своей пальмовой ветвью, как вы догадываетесь – под ветвью Деворы. Странно смотреть на 900 огромных танков против маленькой женщины, сидящей под пальмовым деревом, которая, казалось бы, должна видеть, что исход сражения уже предрешен.</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ора, которая жила в нескольких милях на северо-запад от Иерихона, была судьей над Израилем. Люди в Израиле приходили к ней, чтобы разрешить свои вопросы. Она была руководителем, которая не теряла веры, не смотря на грустные обстоятельства, окружавшие е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жды, она вызвала на суд Варака, иудея с севера, и сказала ему отчетливо: повелевает [тебе] Господь Бог Израилев: пойди, взойди на гору Фавор и возьми с собою десять тысяч человек из сынов Неффалимовых и сынов Завулоновых; </a:t>
            </a:r>
            <a:br>
              <a:rPr sz="1200"/>
            </a:br>
            <a:r>
              <a:rPr b="0" lang="ru-RU" sz="1200" spc="-1" strike="noStrike">
                <a:solidFill>
                  <a:srgbClr val="000000"/>
                </a:solidFill>
                <a:latin typeface="Arial"/>
              </a:rPr>
              <a:t>а Я приведу к тебе, к потоку Киссону, Сисару, военачальника Иавинова, и колесницы его и многолюдное [войско] его, и предам его в руки твои, Суд. 4:6-7.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685800" y="611280"/>
            <a:ext cx="5486400" cy="7270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как любой мужчина в Израиле, Варак испугался Сисары и отказался повиноваться приказу Деворы. Он согласился только при одном условии: если Девора пойдет с ни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рочица ответила: Пойти пойду с тобою; только [знай, что] не тебе уже будет слава на сем пути, в который ты идешь; но в руки женщины предаст Господь Сисару, Суд. 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таким условием и пророчеством Девора пошла с Вараком. Тем временем Сисара услышал об их плане и направил войска и колесницы к потоку Киссону, чтобы подавить восстание. Но его мощь обратилась против него, потому что Господь привел в замешательство его колесницы. Внезапно 900 колесниц стали огромной помехой. Они быстро начали увязать в грязи. Поэтому стрелки войск Варака с легкостью поднялись на гору Табор и убили всех, включая Сисар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 история о руководстве. Священное Писание описывает Девору как «пророчицу, жену Лапидофова». Но когда Девора говорила о себе, она не использовала термины пророк, судья или руководитель. Он описала так: «мать Израиля», Суд. 5:7.</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887480" y="420840"/>
            <a:ext cx="3227400" cy="2422440"/>
          </a:xfrm>
          <a:prstGeom prst="rect">
            <a:avLst/>
          </a:prstGeom>
          <a:ln w="0">
            <a:noFill/>
          </a:ln>
        </p:spPr>
      </p:sp>
      <p:sp>
        <p:nvSpPr>
          <p:cNvPr id="159"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ДИСКУССИ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какой была жизнь средней израильской семьи на протяжении двадцати лет под гнетом Иавин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что означают слова Деворы:  Не стало обитателей в селениях у Израиля, не стало, доколе не восстала я, Девора, доколе не восстала я, мать в Израиле. Суд. 5: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как бы вы реагировали на месте Сисары? На месте Деворы? На месте Варака?</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982880" y="395280"/>
            <a:ext cx="2747880" cy="2062080"/>
          </a:xfrm>
          <a:prstGeom prst="rect">
            <a:avLst/>
          </a:prstGeom>
          <a:ln w="0">
            <a:noFill/>
          </a:ln>
        </p:spPr>
      </p:sp>
      <p:sp>
        <p:nvSpPr>
          <p:cNvPr id="161" name="PlaceHolder 2"/>
          <p:cNvSpPr>
            <a:spLocks noGrp="1"/>
          </p:cNvSpPr>
          <p:nvPr>
            <p:ph type="body"/>
          </p:nvPr>
        </p:nvSpPr>
        <p:spPr>
          <a:xfrm>
            <a:off x="685800" y="2484360"/>
            <a:ext cx="5486400" cy="5686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го боялся Варак? Почему он не пошел без Деворы?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что чувствовали израильские мужчины, испытывая гордость за победу Деворы и Варак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современная женщина в церкви затмевает мужчину, как реагируют на это члены церкви?</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900080" y="395280"/>
            <a:ext cx="2751120" cy="2063880"/>
          </a:xfrm>
          <a:prstGeom prst="rect">
            <a:avLst/>
          </a:prstGeom>
          <a:ln w="0">
            <a:noFill/>
          </a:ln>
        </p:spPr>
      </p:sp>
      <p:sp>
        <p:nvSpPr>
          <p:cNvPr id="163"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Олдамы, 4 Цар. 22:14-20, 2 Пар. 34:14-3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арь Иосия поручил Шафане пересчитать деньги и распределить их среди мужчин, которые работали в храме, а те должны были раздать деньги своим работникам Когда Шафан показал собранные деньги, Хелкия, первосвященник, рассказал ему, что он нашел книгу закона, которая находилась в храме. Шафан прочитал книгу, затем вернулся к Иосии и рассказал ему о книге и о чем она говорит. Когда Иосия услышал ужасные пророчества книги, он обезумел и рассказал своим близким советникам: «пойдите, вопросите Господа за меня и за оставшихся у Израиля и за Иуду» – найти то, что они должны были сдел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есно, что вместо, того чтобы последовать наставлению царя советники направились к пророчице Олдаме. Олдама изучила Слово. Она, возможно, пришла в недоумение от ужасных предсказаний, которые рассказали советники, но я верю, что ее голос был непоколебим. Возможно, ужасные опасности открыли ей глаза. Она вспомнила убитых пророков, которые предсказывали и гадали. Она подумала о царях, которые гадали по звездам; о людях, которые следовали их пример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 одна из четырех женщин, о чьем истинном пророческом служении упоминается в Ветхом Завете. Другие женщины – Мариам, Девора и жена Исаии. Не смотря на то, что пророки такие, как Иеремия и Софония действовали активно, советники Царя Иосии не последовали за ними, но вместо этого советовались с Олдамой об удивительно открытой Книге зако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конечно, знала о подлых деталях прошлого. Она выдержала пятидесяти пяти летнее правление Монасии, который был одним из самых ужасный царей. Она вдохновилась только что произошедшими реформами царя Иосии. Однако спустя тридцать пять лет после пророчицы Олдамы Израиль был взят в рабство Вавилоном, и все его города была разрушены.</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body"/>
          </p:nvPr>
        </p:nvSpPr>
        <p:spPr>
          <a:xfrm>
            <a:off x="685800" y="539640"/>
            <a:ext cx="5486400" cy="791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сказала советникам, что поскольку Иосия воспринял весть столь серьезно, если он продолжит следовать за Божьим руководством, он тихо умрет и будет погребен с миром. Очень печально, что Иосия не до конца выслушал Бога, и в последствии был убит в битве с царем Егип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ники принесли весть Олдамы обратно Иосии, и он начал наводить порядок в доме, расчищая все языческие места всесожжения, сексуального поклонения, жертвенники поклонения идолам и алтарь Молоху, которому люди приносили в жертву сыновей и дочерей. Как невероятно низко пал народ Израильский.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900080" y="539640"/>
            <a:ext cx="2751120" cy="2063880"/>
          </a:xfrm>
          <a:prstGeom prst="rect">
            <a:avLst/>
          </a:prstGeom>
          <a:ln w="0">
            <a:noFill/>
          </a:ln>
        </p:spPr>
      </p:sp>
      <p:sp>
        <p:nvSpPr>
          <p:cNvPr id="134"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все полагаем, что это правда. Однако, Библия также полна исполненных духом женщин, женщин, сильных в Боге, женщин, успех которых равен успеху мужчин-руководителей, которые совершали успешную работу и проявляли лидерские качества. И то, что сделали эти женщины более, чем чудесно, потому что их статус был очень низким, даже ниже чем у этих «простых мужчин».</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789200" y="395280"/>
            <a:ext cx="3038400" cy="2279520"/>
          </a:xfrm>
          <a:prstGeom prst="rect">
            <a:avLst/>
          </a:prstGeom>
          <a:ln w="0">
            <a:noFill/>
          </a:ln>
        </p:spPr>
      </p:sp>
      <p:sp>
        <p:nvSpPr>
          <p:cNvPr id="166"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Вопросы для дискуссии</a:t>
            </a:r>
            <a:r>
              <a:rPr b="1" lang="en-US" sz="1200" spc="-1" strike="noStrike">
                <a:solidFill>
                  <a:srgbClr val="000000"/>
                </a:solidFill>
                <a:latin typeface="Garamond"/>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видно, что Олдама пророчествовала из своего дома, поскольку святые мужи нашли ее там. Как вы думаете, почему она осуществляла духовную работу дома? Каким служением современная женщина может заниматься на до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была верной пророчицей в окружении неверия, творящегося в стране. Как вы думаете, каким образом современная дочерь Божья может помочь улучшить состояние нашей церкви и показать пример верност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ая женщина знает о пользе уборки в доме. Царь Иосия, услышав слова Олдамы, повелел навести духовный порядок в своем царстве. Как вы и я можем очистить наши дома и жизни в духовной сфере?</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841400" y="250920"/>
            <a:ext cx="2940120" cy="2206440"/>
          </a:xfrm>
          <a:prstGeom prst="rect">
            <a:avLst/>
          </a:prstGeom>
          <a:ln w="0">
            <a:noFill/>
          </a:ln>
        </p:spPr>
      </p:sp>
      <p:sp>
        <p:nvSpPr>
          <p:cNvPr id="168" name="PlaceHolder 2"/>
          <p:cNvSpPr>
            <a:spLocks noGrp="1"/>
          </p:cNvSpPr>
          <p:nvPr>
            <p:ph type="body"/>
          </p:nvPr>
        </p:nvSpPr>
        <p:spPr>
          <a:xfrm>
            <a:off x="685440" y="2555640"/>
            <a:ext cx="5838840" cy="590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Мариам (Исх. 2:1-10, 15:20-21, Чис. 21:1-15)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была совсем молоденькой девушкой, когда отнесла своего брата Моисея в корзинке к реке Нил и спасла ему жизнь. Она превосходно заботилась об осуществлении Божьего плана по спасению жизни Моисея и его удивительном  посвящении как руководителя. Как молодая женщина она показала ожидаемые качества повиновения и послушания Богу, которые являются условием для руководств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дети Израиля, наконец-то, были избавлены от ига Египта, Мариам вела израильских женщина, прославляя Бога за чудесное поражение египтян у Красного моря. «Взяла Мариам пророчица, сестра Ааронова, в руку свою тимпан, и вышли за нею все женщины с тимпанами и ликованием», Исх. 15:2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была крепка и исполнена Богом для руководства. Поэтому однажды она решила осудить Моисея, а особенно, его жизнь. Мариам и Аарон выразили недовольство тем, что Моисей женился на женщине из Куша. Грех Мариам был очень схож с грехом гордости. Она думала, что ее жизнь лучше, чем жизнь Моисея. Что эта чужестранка знала о страданиях в Египте? Мариам подвергалась жестокости и дискриминации от рук надзирателей фараоновых. Она каждый день видела страдания своей семьи и всего народа. Что эта чужестранка знала о страданиях и боли? Она жила привилегированно в доме своего богатого отца. У нее нет даже и представления о жизни тех, кто испытал жестокость и рабство.</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 услышал все недовольства и тот час же ответил всем троим: Моисею, Аарону и Мариами – выйдите из скинии. Затем Бог сошел в облаке и остановился у входа. Господь сказал им, что Он избрал руководителем Моисея и недоволен тем, что двое других осуждают его. Как только Господь удалился, Он поразил Мариам проказо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арон и Моисей умаляли Бога не наказывать ее, но Бог поступил так, как сказал. Мариам страдала ужасной болезнью семь дней, но затем была восстановлена в своей должности руководителя. Она была незамедлительно наказана за свой грех. Возможно, теперь она приступила к своим руководящим обязанностям как более мудрая женщина.</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152800" y="395280"/>
            <a:ext cx="2751120" cy="2063880"/>
          </a:xfrm>
          <a:prstGeom prst="rect">
            <a:avLst/>
          </a:prstGeom>
          <a:ln w="0">
            <a:noFill/>
          </a:ln>
        </p:spPr>
      </p:sp>
      <p:sp>
        <p:nvSpPr>
          <p:cNvPr id="170"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ДИСКУССИ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проявила свои способности руководителя еще в юности. Она соблюдала баланс и уверенность, взаимодействуя с принцессой Египетской. Как вы думаете, современные дочери Божии должны осознавать и развивать такие Богом данные руководящие навыки в наших молодых девушках? Следует ли нам поддерживать духовно-одаренных молодых женщин раскрывать свои талант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была очень сильным духовным лидером, когда она побудила женщин поблагодарить Бога за чудесное избавление у Красного моря. Бог был очень ею доволен. Как сегодня мы можем побудить женщин отпраздновать дар спасения? Какие способы мы можем использовать?</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070000" y="755640"/>
            <a:ext cx="2845080" cy="2135160"/>
          </a:xfrm>
          <a:prstGeom prst="rect">
            <a:avLst/>
          </a:prstGeom>
          <a:ln w="0">
            <a:noFill/>
          </a:ln>
        </p:spPr>
      </p:sp>
      <p:sp>
        <p:nvSpPr>
          <p:cNvPr id="172"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что думала Мариам о своей жизни и о жизни Моисея? Думала ли она, что ее происхождение и дары руководителя делают ее лучше, чем «женщину из Куша»? Испытываем ли мы порой подобные переживания? Отвечая от сердца, давайте спросим себя: «Над кем я чувствую свое превосходство?» (Предоставьте несколько минут для тихого размышлен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только Мариам была наказана, а Аарон нет? Могла ли она быть зачинщиком осуждения?</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924200" y="324000"/>
            <a:ext cx="2846160" cy="2135160"/>
          </a:xfrm>
          <a:prstGeom prst="rect">
            <a:avLst/>
          </a:prstGeom>
          <a:ln w="0">
            <a:noFill/>
          </a:ln>
        </p:spPr>
      </p:sp>
      <p:sp>
        <p:nvSpPr>
          <p:cNvPr id="174"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уроки мы можем извлечь из опыта Мариам об осуждении, особенно, руководителей и/или их супруг/ов?</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приняла свое наказание и пережила его смиренно. Что бы мы с вами чувствовали, если бы получили такой «больничный» на неделю. Использовали бы мы это время, чтобы построить взаимоотношения с Богом или провели его, жалуясь на нашу ситуацию?</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295360" y="324000"/>
            <a:ext cx="2556000" cy="1917720"/>
          </a:xfrm>
          <a:prstGeom prst="rect">
            <a:avLst/>
          </a:prstGeom>
          <a:ln w="0">
            <a:noFill/>
          </a:ln>
        </p:spPr>
      </p:sp>
      <p:sp>
        <p:nvSpPr>
          <p:cNvPr id="176" name="PlaceHolder 2"/>
          <p:cNvSpPr>
            <a:spLocks noGrp="1"/>
          </p:cNvSpPr>
          <p:nvPr>
            <p:ph type="body"/>
          </p:nvPr>
        </p:nvSpPr>
        <p:spPr>
          <a:xfrm>
            <a:off x="685440" y="2339640"/>
            <a:ext cx="5767560" cy="6335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Мелхолы (1 Цар. 18:20-29, 19:11-17, 2 Цар. 6:16-23)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лхола полюбила Давида, красивого царя. Саул, ее отец, был очень доволен. Саул хотел использовать ее любовь к Давиду в своих целях. Поэтому он позволил им жениться, а затем попытался использовать Мелхолу в качестве внутреннего агента, надеясь, что она будет больше служить отцу, нежели Давиду. И Давид, у которого было скромное происхождение, наслаждался тем, что обладал королевой всей своей жизн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щенное Писание упоминает несколько раз о том, насколько сильно Мелхола любила Давида. Давид был музыкантом, играющим на арфе для ее отца. Возможно, это была первая романтическая музыка на земле. После того, как Давид победил Голиафа с помощью одних только камней, не только Мелхола, но весь Израиль полюбил его. Но только лишь ради одной любви Мелхолы Давид уничтожил двести филистимлян. Он очень хотел стать мужем царевны.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того, как они поженились, Мелхола спасла жизнь Давиду, когда Саул хотел убить его. Используя свое воображение и творческие способности, она помогла мужу убежать через окно, затем накрыла его постель и претворилась, будто он болен.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мотря на то, что Мелхола спасла жизнь Давиду, он к ней не вернулся. Они жили раздельно. Возможно, она думала, что Давид придумает способ, как защитить ее от ярости отца, и была разочарована, когда время проходило, а никаких известий от Давида не было.</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е разочарование переросло в горечь от того, что Давид так и не вернулся к ней. Мелхола чувствовала предательство и, возможно, была потрясена. И ее мечты полностью разбились, когда отец за ее верность Давиду заставил Мелхолу выйти замуж за Фалтию, которого она не любила. Прошло время, она наконец-то построила отношения со своим новым мужем, который любил ее. Но затем брат Мелхолы силой забрал ее к себе. Библия говорит, что с плачем Фалтия последовал за ней в землю Бахурим. Но Авенир попросил его идти домой, и тот возвратился, 2 Цар. 3:1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Мелхолы очень трагична. Ее гнев возрос, когда она осознала, что всегда была всего лишь чьей-то пешкой. Она была первой царевной, а затем царицей, но ее потенциал как руководителя использовался отцом только для осуществления личных планов. Затем ее использовал Давид, чтобы отомстить Саулу. Он взял ее в жены, но не по любви, а как победный трофей.</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685800" y="539640"/>
            <a:ext cx="5486400" cy="791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шло девять лет с того момента, когда она помогла Давиду выпрыгнуть в окно и убежать, теперь она снова стоит у окна, смотрит на Давида и обижается на н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ервого окна Мелхола – дочь Саула, у второго окна – жена Давида. Священное Писание говорит, что она разговаривала с ним с отвращением. Молчание между Мелхолой и Давидом, возможно, распространилось как холодный лед в зимнюю стужу. Царица-руководитель закончила свои дни в одиночестве, у нее не было ни семьи, ни детей, которые могли бы поддержать ее.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098800" y="324000"/>
            <a:ext cx="2877840" cy="2160360"/>
          </a:xfrm>
          <a:prstGeom prst="rect">
            <a:avLst/>
          </a:prstGeom>
          <a:ln w="0">
            <a:noFill/>
          </a:ln>
        </p:spPr>
      </p:sp>
      <p:sp>
        <p:nvSpPr>
          <p:cNvPr id="179"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лхола, по своему первородству, была наделена правом на руководство. Как вы думаете, сложнее руководить, когда от вас ожидают этого? Поче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очарование в любимом человеке сломало Мелхолу и привело к недоверию и отчаянию. Мелхола ожидала, что Давид вернется и спасет ее от Саула, как однажды она спасла Давида от Саула. Как современная женщина может научиться не рассчитывать на то, что кто-нибудь спасет ее? Как женщины-руководители могут справиться с тем, что некоторые люди могут разочаровывать их?</a:t>
            </a:r>
            <a:endParaRPr b="0" lang="en-US" sz="1200" spc="-1" strike="noStrike">
              <a:solidFill>
                <a:srgbClr val="000000"/>
              </a:solidFill>
              <a:latin typeface="Arial"/>
            </a:endParaRPr>
          </a:p>
          <a:p>
            <a:pPr marL="22860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962000" y="611280"/>
            <a:ext cx="2845080" cy="2135160"/>
          </a:xfrm>
          <a:prstGeom prst="rect">
            <a:avLst/>
          </a:prstGeom>
          <a:ln w="0">
            <a:noFill/>
          </a:ln>
        </p:spPr>
      </p:sp>
      <p:sp>
        <p:nvSpPr>
          <p:cNvPr id="181" name="PlaceHolder 2"/>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лхола была удовлетворена взаимоотношениями во втором браке, но снова борьба за власть над ее первородством оттолкнула ее от того, кто по-настоящему любил ее. Как вы думаете, для современных женщин руководителей сложно различать тех, кто дружит с ними, потому что они могут получить выгоду, и тех, кто дружит с ними и способен жертвовать собой? Какие существуют отличительные характеристики двух вышеперечисленных типов друзей?</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2341440" y="395280"/>
            <a:ext cx="2463840" cy="1847880"/>
          </a:xfrm>
          <a:prstGeom prst="rect">
            <a:avLst/>
          </a:prstGeom>
          <a:ln w="0">
            <a:noFill/>
          </a:ln>
        </p:spPr>
      </p:sp>
      <p:sp>
        <p:nvSpPr>
          <p:cNvPr id="183" name="PlaceHolder 2"/>
          <p:cNvSpPr>
            <a:spLocks noGrp="1"/>
          </p:cNvSpPr>
          <p:nvPr>
            <p:ph type="body"/>
          </p:nvPr>
        </p:nvSpPr>
        <p:spPr>
          <a:xfrm>
            <a:off x="685800" y="2410920"/>
            <a:ext cx="5695920" cy="604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Прискиллы Деян. 18-19, Рим. 16:3-4, 1 Кор. 16:19, 2 Тим. 4: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Клавдий выгнал евреев из Рима в 49 году н.э., потому что он хотел прекратить всякие споры об Иисусе Христе, Прискилла и Акила переселились в Корин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ринф был торговым центром, известным высоким уровнем преступности. Не так уж и много возможностей для распространения убеждений для новых верующих. Но тем не менее, именно в этот город Бог поместил Прискиллу и ее мужа Акил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ез год в Коринф приехал апостол Павел. Он, возможно, познакомился с супругами на торговой площади. Они шили палатки. Прискилла и Акила пригласили Павла остановиться в их доме и трудиться с ними. Павел проповедовал Евангелие и пробуждал как веру, так и оппозицию. Через полторга года руководители иудеев в Коринфе попросили его предстать перед советом. После того, как обязательства были выполнены, Павел направил паруса в Ефес, взяв с собой Прискиллу и Акил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скилла должна была быть духовно сильной женщиной, обладающей дарами руководства. В Новом Завете упоминается об этой супружеской паре четыре раз. И все четыре раза имя Прискиллы упоминается вместе с именем Акилы. Вероятно, этот факт подчеркивает ее способности как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ль Прискиллы в обучении Аполлоса и руководстве церковью поразительна. Вместе с Акилой она была лучшим другом апостола Павла, помогая ему организовать церковь и рискуя жизнью ради поставленных Павлом ц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вел упоминает об этой супружеской паре в одном из своих писем, но не детализирует обстоятельства. Прискилла помогла организовать раннюю церковь, не смотря на атмосферу сильной враждебности, рискуя своей жизнью ради целей Евангелия, которое она так любила.</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989000" y="468360"/>
            <a:ext cx="2845080" cy="2135160"/>
          </a:xfrm>
          <a:prstGeom prst="rect">
            <a:avLst/>
          </a:prstGeom>
          <a:ln w="0">
            <a:noFill/>
          </a:ln>
        </p:spPr>
      </p:sp>
      <p:sp>
        <p:nvSpPr>
          <p:cNvPr id="136"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арактерные особенности женщин в Библ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мы читаем повествования и исторические доказательства некоторых характерных черт библейских женщин, возможно, они покажутся нам обыкновен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глуп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слаб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неуравновешен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абсолютно не привлекатель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скорее всего, эти женщины покажутся нам абсолютно обычными. Многие из них были женщинами нижнего класса, такими же, как апостолы.</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2211480" y="324000"/>
            <a:ext cx="2560680" cy="1919160"/>
          </a:xfrm>
          <a:prstGeom prst="rect">
            <a:avLst/>
          </a:prstGeom>
          <a:ln w="0">
            <a:noFill/>
          </a:ln>
        </p:spPr>
      </p:sp>
      <p:sp>
        <p:nvSpPr>
          <p:cNvPr id="185" name="PlaceHolder 2"/>
          <p:cNvSpPr>
            <a:spLocks noGrp="1"/>
          </p:cNvSpPr>
          <p:nvPr>
            <p:ph type="body"/>
          </p:nvPr>
        </p:nvSpPr>
        <p:spPr>
          <a:xfrm>
            <a:off x="685800" y="2268360"/>
            <a:ext cx="5486400" cy="6189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ДИСКУССИ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скила и Акила покинули Коринф вместе с апостолом Павлом и направились в Ефес. Как вы думаете, как складываются отношения, если супруги являются равными руководителями? Как вы думаете, какие могут быть «за и против», когда один руководитель зарабатывать деньги на проживание, а другой продолжает руководящее служе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щенное Писание рассказывает нам, что Акила и Прискилла обучали Аполлоса. Должно быть они были успешными учителями, поскольку Аполлос стал впоследствии верным служителем. Как вы думаете, как Аполлос относился к тому, что его наставляют женщина и мужчина? Почему они наставляли его наедине?</a:t>
            </a:r>
            <a:endParaRPr b="0" lang="en-US" sz="1200" spc="-1" strike="noStrike">
              <a:solidFill>
                <a:srgbClr val="000000"/>
              </a:solidFill>
              <a:latin typeface="Arial"/>
            </a:endParaRPr>
          </a:p>
          <a:p>
            <a:pPr marL="22860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2128680" y="395280"/>
            <a:ext cx="2654280" cy="1990800"/>
          </a:xfrm>
          <a:prstGeom prst="rect">
            <a:avLst/>
          </a:prstGeom>
          <a:ln w="0">
            <a:noFill/>
          </a:ln>
        </p:spPr>
      </p:sp>
      <p:sp>
        <p:nvSpPr>
          <p:cNvPr id="187" name="PlaceHolder 2"/>
          <p:cNvSpPr>
            <a:spLocks noGrp="1"/>
          </p:cNvSpPr>
          <p:nvPr>
            <p:ph type="body"/>
          </p:nvPr>
        </p:nvSpPr>
        <p:spPr>
          <a:xfrm>
            <a:off x="685800" y="2484360"/>
            <a:ext cx="5486400" cy="5470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раз, когда упоминаются супруги, их имена упоминаются вместе. Означает ли это, что для апостола Павла служение Прискиллы равнозначно служению мужа? Поче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вел говорит в послании Римлянам, что Прискилла и Акила рисковали жизнью ради него. Какую поддержку и доверие может привнести в служение руководителей церкви такое признание и высокая оценка служения женщины?</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2070000" y="468360"/>
            <a:ext cx="2845080" cy="2135160"/>
          </a:xfrm>
          <a:prstGeom prst="rect">
            <a:avLst/>
          </a:prstGeom>
          <a:ln w="0">
            <a:noFill/>
          </a:ln>
        </p:spPr>
      </p:sp>
      <p:sp>
        <p:nvSpPr>
          <p:cNvPr id="189"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 историй о женщинах-руководителях в библейские времена мы учимся ценным урокам, как поддерживать и обучать современных женщин. Библейские женщины проявили мужество, способности и духовную силу. Бог призвал их также, как Он призывает женщин сегодня, чтобы они могли предложить свои дары в руководящем служении в Его сла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и об этих духовных руководителях даны нам как «пример и написаны в наставление». Давайте будем учиться у них и ответим на Божий призыв к каждой из нас, чтобы использовать тот потенциал, который Он дал нам.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984320" y="826920"/>
            <a:ext cx="2654280" cy="1990800"/>
          </a:xfrm>
          <a:prstGeom prst="rect">
            <a:avLst/>
          </a:prstGeom>
          <a:ln w="0">
            <a:noFill/>
          </a:ln>
        </p:spPr>
      </p:sp>
      <p:sp>
        <p:nvSpPr>
          <p:cNvPr id="138" name="PlaceHolder 2"/>
          <p:cNvSpPr>
            <a:spLocks noGrp="1"/>
          </p:cNvSpPr>
          <p:nvPr>
            <p:ph type="body"/>
          </p:nvPr>
        </p:nvSpPr>
        <p:spPr>
          <a:xfrm>
            <a:off x="685800" y="2846160"/>
            <a:ext cx="5486400" cy="568620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Бог, по Своей мудрости, зная ценность и неординарность, которой он наделил свое творение – женщину, избрал ее для славы Своей. Бог избрал женщин-руководителей таких как самарянка, чье имя никто не знает</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2060640" y="611280"/>
            <a:ext cx="2847960" cy="2135160"/>
          </a:xfrm>
          <a:prstGeom prst="rect">
            <a:avLst/>
          </a:prstGeom>
          <a:ln w="0">
            <a:noFill/>
          </a:ln>
        </p:spPr>
      </p:sp>
      <p:sp>
        <p:nvSpPr>
          <p:cNvPr id="140"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Бог избрал Анну – неприметную, пожилую женщину, история о которой кратко записана во второй главе евангелия от Лу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избрал Рааф, женщину легкого повед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избрал Марию, мать Иисуса Христа, которая была молодой девушкой из неизвестной семьи, живущей в деревне в Галилее</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йствительности, единственным исключением является лишь Ева. Она была создана с небольшими преимуществами, если сравнивать ее с другими женщинами. Она была сотворена совершенной и довольно неординарной. Она была создана руками Творца, чтобы быть чистым и девственным идеалом женского рода. Она общалась с Богом лично. А также она стала живым примером, как Бог может покрыть и искупить любые наши ошибки и сделать каждую из нас неординарной в Свою славу, вместо наших ошибок.</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163600" y="324000"/>
            <a:ext cx="2459160" cy="1846080"/>
          </a:xfrm>
          <a:prstGeom prst="rect">
            <a:avLst/>
          </a:prstGeom>
          <a:ln w="0">
            <a:noFill/>
          </a:ln>
        </p:spPr>
      </p:sp>
      <p:sp>
        <p:nvSpPr>
          <p:cNvPr id="142" name="PlaceHolder 2"/>
          <p:cNvSpPr>
            <a:spLocks noGrp="1"/>
          </p:cNvSpPr>
          <p:nvPr>
            <p:ph type="body"/>
          </p:nvPr>
        </p:nvSpPr>
        <p:spPr>
          <a:xfrm>
            <a:off x="685800" y="2195640"/>
            <a:ext cx="5486400" cy="62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женщины стали неординарными руководителями, не потому что в них были заложены природные качества, но потому что они доверили Богу, Которому они поклонялись и служили, Богу, Который сотворил их и подарил равные с мужчинами лидерские возможности, очистил как чистое сереб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и библейские женщины-руководители напоминают нам как о падении, так и о потенциале. Одна из уникальных характерных черт Библии это способ возвеличивания женщ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метили ли вы, что вместо того, чтобы унижать или недооценивать женщин, Священное Писание зачастую выражает уважение к ним, Священное Писание облагораживает их роли в обществе и семье. Библия подчеркивает важность их влияния. Из первой главы Библии мы узнаем, что женщина наравне с мужчиной обладает печатью и образом Божьим. Жены рассматриваются как партнеры и надежные спутники своих мужей, а не рабыни или предмет утвар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когда Господь давал десять заповедей, Он поручил детям уважать обоих родителей: и отца, и мать. В настоящее время в нашей культуре это кажется не удивительным, мы полагаем, что такое положение вещей соответствует здравому смыслу и правильно. Однако, в те далекие времена в языческой культуре, когда существовал жесткий патриархат, такой подход представляется революционной концепцией. Язычники-мужчины управляли домами очень жестко, а женщины им подчиняли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вященное Писание в действительности очень революционно и заставляет задуматься, когда оно наделяет женщину  особой честью (1 Петр. 3:7). Священное Писание поручает мужчинам любить своих жен жертвенной любовью, как Христос любит церковь, даже, если такая любовь стоит им жизни (Еф. 5:25-31).</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body"/>
          </p:nvPr>
        </p:nvSpPr>
        <p:spPr>
          <a:xfrm>
            <a:off x="685800" y="755640"/>
            <a:ext cx="5486400" cy="770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щательное изучение библейских повествований патриархов показывает нам, насколько глубоко они всегда уважали своих жен. Истории Сары, Ребекки и Рахили, описанные в книге Бытие, рассказывают нам как об их мужьях, так и о ни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сестра Моисея и Аарона, была пророчицей и псалмопевцем. И в книге Михея 6:4 Бог воздает ей славу за верное сопровождение братьев, и говорит о ней как об одном из трех руководителей во время Исх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ора также была пророчицей и судьей в Израиле до учреждения монархии. Когда Соломон (мудрейший из людей) стал царем, он воздал честь своей матери: встав, когда она зашла в его присутствие и поклонился перед ней, прежде чем она села на трон (3 Цар. 2:19).</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100240" y="395280"/>
            <a:ext cx="2460600" cy="1846440"/>
          </a:xfrm>
          <a:prstGeom prst="rect">
            <a:avLst/>
          </a:prstGeom>
          <a:ln w="0">
            <a:noFill/>
          </a:ln>
        </p:spPr>
      </p:sp>
      <p:sp>
        <p:nvSpPr>
          <p:cNvPr id="145" name="PlaceHolder 2"/>
          <p:cNvSpPr>
            <a:spLocks noGrp="1"/>
          </p:cNvSpPr>
          <p:nvPr>
            <p:ph type="body"/>
          </p:nvPr>
        </p:nvSpPr>
        <p:spPr>
          <a:xfrm>
            <a:off x="620280" y="2339640"/>
            <a:ext cx="5767560" cy="583092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Притчах Соломон мудрость сравнивает с женщиной. Не маловажным является тот факт, что в социальной и религиозной жизни как Древнего Израиля, так и Новозаветней церкви к женщинам никогда не относились как к низкому классу. Они участвовали во всех праздниках и общественных богослужениях в Израиле наравне с мужчинами (Втор. 16:14, Неем. 8:2-3).</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Притчах Соломон мудрость сравнивает с женщиной. Не маловажным является тот факт, что в социальной и религиозной жизни как Древнего Израиля, так и Новозаветней церкви к женщинам никогда не относились как к низкому классу. Они участвовали во всех праздниках и общественных богослужениях в Израиле наравне с мужчинами (Втор. 16:14, Неем. 8:2-3).</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211480" y="250920"/>
            <a:ext cx="2560680" cy="1919160"/>
          </a:xfrm>
          <a:prstGeom prst="rect">
            <a:avLst/>
          </a:prstGeom>
          <a:ln w="0">
            <a:noFill/>
          </a:ln>
        </p:spPr>
      </p:sp>
      <p:sp>
        <p:nvSpPr>
          <p:cNvPr id="147" name="PlaceHolder 2"/>
          <p:cNvSpPr>
            <a:spLocks noGrp="1"/>
          </p:cNvSpPr>
          <p:nvPr>
            <p:ph type="body"/>
          </p:nvPr>
        </p:nvSpPr>
        <p:spPr>
          <a:xfrm>
            <a:off x="685800" y="2195640"/>
            <a:ext cx="5695920" cy="62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трасты в истор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владели землей в Израиле (Чис. 27:8, Пр. 31:16). Это противоречит положению женщин в культурах, где они грубо унижены и обесценены. Женщины в языческих обществах в библейские времена ценились чуть выше, чем живот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же некоторые из хорошо известных Греческих философов, принадлежавшие великим умам своей эпохи, учили, что женщины являются второстепенными творениями в приро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великой Римской Империи, возможно, возносившейся над предхристианской цивилизацией, женщины обычно были личным предметом своих мужей или отцов, их статус был чуть выше, чем статус раб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зыческая религия мотивировала и поддерживала обесценивание женщин еще больше. Греческая и Римская мифология рассказывала о своих богинях, таких как Диана и Афродита, но эти богини не поднимали статус женщин в обществе выше. Абсурдно, но реальность была абсолютно обратной. В большинстве храмов, посвященных богиням, служили проститутки, женщины прислуживали как жрицы, которые продавали себя за деньги. Существует предположение, что они осуществляли некоторого рода религиозное таин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зыческие божества мужского рода совершали вульгарные религиозные церемонии, включая эротические сексуальные церемонии, пьяные оргии в храме, гомосексуальную практику и что самое ужасное - жертвоприношение людей. Почему нам необходимо обо всем этом напомнить, когда мы обсуждаем тему женщин-руководителей в церкви в 21 веке? Потому что христианство зародилось в мире, когда Римская и Еврейская культуры перемешались, а христианство возвысило статус женщин на беспрецедентную высо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Христос преподал нам пример в Своем служении, когда призвал на служение несколько женщин апостолов (Лк. 8:1-3), что не практиковали раввины того времени. Но более того, Христос ПОДДЕРЖАЛ их апостольство с помощью истории о том, что существует нечто более ценное, чем домашнее хозяйство (помните историю о Марии и Марфе?). Фактически, впервые Христос  как Миссия открылся женщине Самаритянке.</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9E179-73F6-4F84-8368-1B6D55FE6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06F2C-201B-4C5E-9D2A-7945D61BB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6D729-BEC0-4477-832B-A4F5A84B0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D21C5-BA73-4E61-9049-2C7455124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531CE-B37D-4CC9-8E32-558882D27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CE7CB-32BE-4AFD-85F1-FF1275DE1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89C42-9CDB-4A98-95FD-44FFB3CF1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E3058-6327-4DAF-97A2-E8C788675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55F74-E3E5-400B-986A-65418CBE2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A2728-D575-4E81-987D-131045CBA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53569-27E1-4408-98F0-D93D126A1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5C40C-925D-4DBC-B7B6-756459A93A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2D2BB-40FF-45F3-9485-EF4BFD9568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1047600" y="476280"/>
            <a:ext cx="7485120" cy="1434600"/>
          </a:xfrm>
          <a:prstGeom prst="rect">
            <a:avLst/>
          </a:prstGeom>
          <a:noFill/>
          <a:ln w="0">
            <a:noFill/>
          </a:ln>
          <a:effectLst>
            <a:outerShdw dist="64600" dir="67483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Futura Md BT"/>
              </a:rPr>
              <a:t>Женщины-руководители в Библии</a:t>
            </a:r>
            <a:endParaRPr b="0" lang="en-US" sz="4400" spc="-1" strike="noStrike">
              <a:solidFill>
                <a:srgbClr val="000000"/>
              </a:solidFill>
              <a:latin typeface="Arial"/>
            </a:endParaRPr>
          </a:p>
        </p:txBody>
      </p:sp>
      <p:pic>
        <p:nvPicPr>
          <p:cNvPr id="52" name="" descr=""/>
          <p:cNvPicPr/>
          <p:nvPr/>
        </p:nvPicPr>
        <p:blipFill>
          <a:blip r:embed="rId2"/>
          <a:stretch/>
        </p:blipFill>
        <p:spPr>
          <a:xfrm>
            <a:off x="5292720" y="3963960"/>
            <a:ext cx="1008000" cy="689040"/>
          </a:xfrm>
          <a:prstGeom prst="rect">
            <a:avLst/>
          </a:prstGeom>
          <a:ln w="0">
            <a:noFill/>
          </a:ln>
        </p:spPr>
      </p:pic>
      <p:sp>
        <p:nvSpPr>
          <p:cNvPr id="53" name=""/>
          <p:cNvSpPr/>
          <p:nvPr/>
        </p:nvSpPr>
        <p:spPr>
          <a:xfrm>
            <a:off x="4284720" y="5013360"/>
            <a:ext cx="3403440" cy="1679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utura Md BT"/>
              </a:rPr>
              <a:t>Отдел женского служения ГК</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utura Md BT"/>
              </a:rPr>
              <a:t>Сертификационная программа</a:t>
            </a:r>
            <a:r>
              <a:rPr b="0" lang="en-US" sz="2000" spc="-1" strike="noStrike">
                <a:solidFill>
                  <a:srgbClr val="ffffff"/>
                </a:solidFill>
                <a:latin typeface="Futura Md BT"/>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utura Md BT"/>
              </a:rPr>
              <a:t>Уровень</a:t>
            </a:r>
            <a:r>
              <a:rPr b="0" lang="en-US" sz="2000" spc="-1" strike="noStrike">
                <a:solidFill>
                  <a:srgbClr val="ffffff"/>
                </a:solidFill>
                <a:latin typeface="Futura Md BT"/>
              </a:rPr>
              <a:t> </a:t>
            </a:r>
            <a:r>
              <a:rPr b="0" lang="en-US" sz="2400" spc="-1" strike="noStrike">
                <a:solidFill>
                  <a:srgbClr val="ffffff"/>
                </a:solidFill>
                <a:latin typeface="Futura Md BT"/>
              </a:rPr>
              <a:t>4</a:t>
            </a:r>
            <a:endParaRPr b="0" lang="en-US" sz="2400" spc="-1" strike="noStrike">
              <a:solidFill>
                <a:srgbClr val="000000"/>
              </a:solidFill>
              <a:latin typeface="Arial"/>
            </a:endParaRPr>
          </a:p>
        </p:txBody>
      </p:sp>
      <p:sp>
        <p:nvSpPr>
          <p:cNvPr id="54" name=""/>
          <p:cNvSpPr/>
          <p:nvPr/>
        </p:nvSpPr>
        <p:spPr>
          <a:xfrm>
            <a:off x="3938040" y="2606760"/>
            <a:ext cx="3737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00"/>
                </a:solidFill>
                <a:latin typeface="Futura Md BT"/>
              </a:rPr>
              <a:t>Подготовлено Шерон Крес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только христианство начало влиять на местную культуру, статус женщин значительно возрос. Один из церковных историков, Тертуллиан, написал, что женщины-язычники, которые детально разрабатывали орнамент для прически, непристойной одежды и боди-арта, в действительности, испытывали давление со стороны общества и моды, и должны были отказаться от своей первозданной женственност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457200" y="764640"/>
            <a:ext cx="8229600" cy="4526280"/>
          </a:xfrm>
          <a:prstGeom prst="rect">
            <a:avLst/>
          </a:prstGeom>
          <a:noFill/>
          <a:ln w="0">
            <a:noFill/>
          </a:ln>
        </p:spPr>
        <p:txBody>
          <a:bodyPr lIns="90000" rIns="90000" tIns="46800" bIns="46800"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целом, там, где евангелие успешно проповедуется, возвышается социальный, юридический и духовный статус женщин. Печально, когда это изменяющее евангелие игнорируется или тускнеет, будь-то под давлением ложной религии, секуляризма, гуманистической философии или духовного падения церкви, то соответственно падает и статус женщин. Важно помнить, что христианство ценит и  утверждает таланты и духовные дары женщин, их руководящий потенциал, дарованный Христо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1908000" y="693720"/>
            <a:ext cx="6275520" cy="1440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utura Md BT"/>
              </a:rPr>
              <a:t>Библейские примеры руководства</a:t>
            </a:r>
            <a:endParaRPr b="0" lang="en-US" sz="4000" spc="-1" strike="noStrike">
              <a:solidFill>
                <a:srgbClr val="000000"/>
              </a:solidFill>
              <a:latin typeface="Arial"/>
            </a:endParaRPr>
          </a:p>
        </p:txBody>
      </p:sp>
      <p:sp>
        <p:nvSpPr>
          <p:cNvPr id="81" name=""/>
          <p:cNvSpPr/>
          <p:nvPr/>
        </p:nvSpPr>
        <p:spPr>
          <a:xfrm>
            <a:off x="3759120" y="3882960"/>
            <a:ext cx="4413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1959120" y="2205000"/>
            <a:ext cx="56372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Futura Md BT"/>
              </a:rPr>
              <a:t>Давайте теперь рассмотрим Библейские примеры руководст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PlaceHolder 1"/>
          <p:cNvSpPr>
            <a:spLocks noGrp="1"/>
          </p:cNvSpPr>
          <p:nvPr>
            <p:ph type="title"/>
          </p:nvPr>
        </p:nvSpPr>
        <p:spPr>
          <a:xfrm>
            <a:off x="457200" y="772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1. </a:t>
            </a:r>
            <a:r>
              <a:rPr b="1" lang="ru-RU" sz="3600" spc="-1" strike="noStrike">
                <a:solidFill>
                  <a:srgbClr val="333399"/>
                </a:solidFill>
                <a:latin typeface="Futura Md BT"/>
              </a:rPr>
              <a:t>История Деворы</a:t>
            </a:r>
            <a:r>
              <a:rPr b="1" lang="en-US" sz="3600" spc="-1" strike="noStrike">
                <a:solidFill>
                  <a:srgbClr val="333399"/>
                </a:solidFill>
                <a:latin typeface="Futura Md BT"/>
              </a:rPr>
              <a:t> </a:t>
            </a:r>
            <a:r>
              <a:rPr b="1" lang="en-US" sz="2800" spc="-1" strike="noStrike">
                <a:solidFill>
                  <a:srgbClr val="333399"/>
                </a:solidFill>
                <a:latin typeface="Futura Md BT"/>
              </a:rPr>
              <a:t>(</a:t>
            </a:r>
            <a:r>
              <a:rPr b="1" lang="ru-RU" sz="2800" spc="-1" strike="noStrike">
                <a:solidFill>
                  <a:srgbClr val="333399"/>
                </a:solidFill>
                <a:latin typeface="Futura Md BT"/>
              </a:rPr>
              <a:t>Судей</a:t>
            </a:r>
            <a:r>
              <a:rPr b="1" lang="en-US" sz="2800" spc="-1" strike="noStrike">
                <a:solidFill>
                  <a:srgbClr val="333399"/>
                </a:solidFill>
                <a:latin typeface="Futura Md BT"/>
              </a:rPr>
              <a:t> 4-5)</a:t>
            </a:r>
            <a:br>
              <a:rPr sz="3600"/>
            </a:br>
            <a:endParaRPr b="0" lang="en-US" sz="2800" spc="-1" strike="noStrike">
              <a:solidFill>
                <a:srgbClr val="000000"/>
              </a:solidFill>
              <a:latin typeface="Arial"/>
            </a:endParaRPr>
          </a:p>
        </p:txBody>
      </p:sp>
      <p:sp>
        <p:nvSpPr>
          <p:cNvPr id="85" name="PlaceHolder 2"/>
          <p:cNvSpPr>
            <a:spLocks noGrp="1"/>
          </p:cNvSpPr>
          <p:nvPr>
            <p:ph/>
          </p:nvPr>
        </p:nvSpPr>
        <p:spPr>
          <a:xfrm>
            <a:off x="755640" y="1566360"/>
            <a:ext cx="7345440" cy="4526280"/>
          </a:xfrm>
          <a:prstGeom prst="rect">
            <a:avLst/>
          </a:prstGeom>
          <a:noFill/>
          <a:ln w="0">
            <a:noFill/>
          </a:ln>
        </p:spPr>
        <p:txBody>
          <a:bodyPr lIns="90000" rIns="90000" tIns="46800" bIns="46800" anchor="t">
            <a:normAutofit fontScale="93000"/>
          </a:bodyPr>
          <a:p>
            <a:pPr marL="56664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ru-RU" sz="3200" spc="-1" strike="noStrike">
                <a:solidFill>
                  <a:srgbClr val="000000"/>
                </a:solidFill>
                <a:latin typeface="Arial"/>
              </a:rPr>
              <a:t>Эта история о руководстве. Священное Писание описывает Девору как «пророчицу, жену Лапидофова». Но когда Девора говорила о себе, она не использовала термины пророк, судья или руководитель. Он описала так: «мать Израиля», Суд. 5: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90" name="PlaceHolder 2"/>
          <p:cNvSpPr>
            <a:spLocks noGrp="1"/>
          </p:cNvSpPr>
          <p:nvPr>
            <p:ph/>
          </p:nvPr>
        </p:nvSpPr>
        <p:spPr>
          <a:xfrm>
            <a:off x="457200" y="177336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вы думаете, какой была жизнь средней израильской семьи на протяжении двадцати лет под гнетом Иавина?</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вы думаете, что означают слова Деворы:  Не стало обитателей в селениях у Израиля, не стало, доколе не восстала я, Девора, доколе не восстала я, мать в Израиле. Суд. 5:7?</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вы думаете, как бы вы реагировали на месте Сисары? На месте Деворы? На месте Вара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457200" y="105264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его боялся Варак? Почему он не пошел без Деворы?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вы думаете, что чувствовали израильские мужчины, испытывая гордость за победу Деворы и Варака?</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гда современная женщина в церкви затмевает мужчину, как реагируют на это члены церкв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2. </a:t>
            </a:r>
            <a:r>
              <a:rPr b="1" lang="ru-RU" sz="3600" spc="-1" strike="noStrike">
                <a:solidFill>
                  <a:srgbClr val="333399"/>
                </a:solidFill>
                <a:latin typeface="Futura Md BT"/>
              </a:rPr>
              <a:t>История Олдамы</a:t>
            </a:r>
            <a:br>
              <a:rPr sz="4000"/>
            </a:br>
            <a:r>
              <a:rPr b="1" lang="en-US" sz="2400" spc="-1" strike="noStrike">
                <a:solidFill>
                  <a:srgbClr val="333399"/>
                </a:solidFill>
                <a:latin typeface="Futura Md BT"/>
              </a:rPr>
              <a:t>(</a:t>
            </a:r>
            <a:r>
              <a:rPr b="1" lang="ru-RU" sz="2400" spc="-1" strike="noStrike">
                <a:solidFill>
                  <a:srgbClr val="333399"/>
                </a:solidFill>
                <a:latin typeface="Futura Md BT"/>
              </a:rPr>
              <a:t>4 Царств</a:t>
            </a:r>
            <a:r>
              <a:rPr b="1" lang="en-US" sz="2400" spc="-1" strike="noStrike">
                <a:solidFill>
                  <a:srgbClr val="333399"/>
                </a:solidFill>
                <a:latin typeface="Futura Md BT"/>
              </a:rPr>
              <a:t> 22:14-20; </a:t>
            </a:r>
            <a:r>
              <a:rPr b="1" lang="ru-RU" sz="2400" spc="-1" strike="noStrike">
                <a:solidFill>
                  <a:srgbClr val="333399"/>
                </a:solidFill>
                <a:latin typeface="Futura Md BT"/>
              </a:rPr>
              <a:t>2 Пар.</a:t>
            </a:r>
            <a:r>
              <a:rPr b="1" lang="en-US" sz="2400" spc="-1" strike="noStrike">
                <a:solidFill>
                  <a:srgbClr val="333399"/>
                </a:solidFill>
                <a:latin typeface="Futura Md BT"/>
              </a:rPr>
              <a:t> 34: 14-33)</a:t>
            </a:r>
            <a:endParaRPr b="0" lang="en-US" sz="2400" spc="-1" strike="noStrike">
              <a:solidFill>
                <a:srgbClr val="000000"/>
              </a:solidFill>
              <a:latin typeface="Arial"/>
            </a:endParaRPr>
          </a:p>
        </p:txBody>
      </p:sp>
      <p:sp>
        <p:nvSpPr>
          <p:cNvPr id="95" name="PlaceHolder 2"/>
          <p:cNvSpPr>
            <a:spLocks noGrp="1"/>
          </p:cNvSpPr>
          <p:nvPr>
            <p:ph/>
          </p:nvPr>
        </p:nvSpPr>
        <p:spPr>
          <a:xfrm>
            <a:off x="519120" y="1916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лдама – одна из четырех женщин, о чьем истинном пророческом служении упоминается в Ветхом Завете. Другие женщины – Мариам, Девора и жена Исаии. Не смотря на то, что пророки такие, как Иеремия и Софония действовали активно, советники Царя Иосии не последовали за ними, но вместо этого советовались с Олдамой об удивительно открытой Книге закон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457200" y="620640"/>
            <a:ext cx="8229600" cy="4525920"/>
          </a:xfrm>
          <a:prstGeom prst="rect">
            <a:avLst/>
          </a:prstGeom>
          <a:noFill/>
          <a:ln w="0">
            <a:noFill/>
          </a:ln>
        </p:spPr>
        <p:txBody>
          <a:bodyPr lIns="90000" rIns="90000" tIns="46800" bIns="46800" anchor="t">
            <a:normAutofit/>
          </a:bodyPr>
          <a:p>
            <a:pPr marL="343080" indent="-343080" algn="ctr">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ы все полагаем, что это правда. Однако, Библия также полна исполненных духом женщин, женщин, сильных в Боге, женщин, успех которых равен успеху мужчин-руководителей, которые совершали успешную работу и проявляли лидерские качества. И то, что сделали эти женщины более, чем чудесно, потому что их статус был очень низким, даже ниже чем у этих «простых мужчин».</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00" name="PlaceHolder 2"/>
          <p:cNvSpPr>
            <a:spLocks noGrp="1"/>
          </p:cNvSpPr>
          <p:nvPr>
            <p:ph/>
          </p:nvPr>
        </p:nvSpPr>
        <p:spPr>
          <a:xfrm>
            <a:off x="539640" y="1412640"/>
            <a:ext cx="8229600" cy="510228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чевидно, что Олдама пророчествовала из своего дома, поскольку святые мужи нашли ее там. Как вы думаете, почему она осуществляла духовную работу дома? Каким служением современная женщина может заниматься на дому?</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лдама была верной пророчицей в окружении неверия, творящегося в стране. Как вы думаете, каким образом современная дочерь Божья может помочь улучшить состояние нашей церкви и показать пример верности?</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ждая женщина знает о пользе уборки в доме. Царь Иосия, услышав слова Олдамы, повелел навести духовный порядок в своем царстве. Как вы и я можем очистить наши дома и жизни в духовной сфер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3.</a:t>
            </a:r>
            <a:r>
              <a:rPr b="1" lang="en-US" sz="4000" spc="-1" strike="noStrike">
                <a:solidFill>
                  <a:srgbClr val="333399"/>
                </a:solidFill>
                <a:latin typeface="Futura Md BT"/>
              </a:rPr>
              <a:t> </a:t>
            </a:r>
            <a:r>
              <a:rPr b="1" lang="ru-RU" sz="4000" spc="-1" strike="noStrike">
                <a:solidFill>
                  <a:srgbClr val="333399"/>
                </a:solidFill>
                <a:latin typeface="Futura Md BT"/>
              </a:rPr>
              <a:t>История Мариам</a:t>
            </a:r>
            <a:br>
              <a:rPr sz="4000"/>
            </a:br>
            <a:r>
              <a:rPr b="1" lang="en-US" sz="2800" spc="-1" strike="noStrike">
                <a:solidFill>
                  <a:srgbClr val="333399"/>
                </a:solidFill>
                <a:latin typeface="Futura Md BT"/>
              </a:rPr>
              <a:t>(</a:t>
            </a:r>
            <a:r>
              <a:rPr b="1" lang="ru-RU" sz="2800" spc="-1" strike="noStrike">
                <a:solidFill>
                  <a:srgbClr val="333399"/>
                </a:solidFill>
                <a:latin typeface="Futura Md BT"/>
              </a:rPr>
              <a:t>Исх</a:t>
            </a:r>
            <a:r>
              <a:rPr b="1" lang="en-US" sz="2800" spc="-1" strike="noStrike">
                <a:solidFill>
                  <a:srgbClr val="333399"/>
                </a:solidFill>
                <a:latin typeface="Futura Md BT"/>
              </a:rPr>
              <a:t>. 2:1-10; 15:20-21; </a:t>
            </a:r>
            <a:r>
              <a:rPr b="1" lang="ru-RU" sz="2800" spc="-1" strike="noStrike">
                <a:solidFill>
                  <a:srgbClr val="333399"/>
                </a:solidFill>
                <a:latin typeface="Futura Md BT"/>
              </a:rPr>
              <a:t>Чис</a:t>
            </a:r>
            <a:r>
              <a:rPr b="1" lang="en-US" sz="2800" spc="-1" strike="noStrike">
                <a:solidFill>
                  <a:srgbClr val="333399"/>
                </a:solidFill>
                <a:latin typeface="Futura Md BT"/>
              </a:rPr>
              <a:t>. 21:1-15)</a:t>
            </a:r>
            <a:endParaRPr b="0" lang="en-US" sz="2800" spc="-1" strike="noStrike">
              <a:solidFill>
                <a:srgbClr val="000000"/>
              </a:solidFill>
              <a:latin typeface="Arial"/>
            </a:endParaRPr>
          </a:p>
        </p:txBody>
      </p:sp>
      <p:sp>
        <p:nvSpPr>
          <p:cNvPr id="103" name="PlaceHolder 2"/>
          <p:cNvSpPr>
            <a:spLocks noGrp="1"/>
          </p:cNvSpPr>
          <p:nvPr>
            <p:ph/>
          </p:nvPr>
        </p:nvSpPr>
        <p:spPr>
          <a:xfrm>
            <a:off x="590400" y="19987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арон и Моисей умаляли Бога не наказывать ее, но Бог поступил так, как сказал. Мариам страдала ужасной болезнью семь дней, но затем была восстановлена в своей должности руководителя. Она была незамедлительно наказана за свой грех. Возможно, теперь она приступила к своим руководящим обязанностям как более мудрая женщин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06" name="PlaceHolder 2"/>
          <p:cNvSpPr>
            <a:spLocks noGrp="1"/>
          </p:cNvSpPr>
          <p:nvPr>
            <p:ph/>
          </p:nvPr>
        </p:nvSpPr>
        <p:spPr>
          <a:xfrm>
            <a:off x="610920" y="1495440"/>
            <a:ext cx="784836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риам проявила свои способности руководителя еще в юности. Она соблюдала баланс и уверенность, взаимодействуя с принцессой Египетской. Как вы думаете, современные дочери Божии должны осознавать и развивать такие Богом данные руководящие навыки в наших молодых девушках? Следует ли нам поддерживать духовно-одаренных молодых женщин раскрывать свои таланты?</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риам была очень сильным духовным лидером, когда она побудила женщин поблагодарить Бога за чудесное избавление у Красного моря. Бог был очень ею доволен. Как сегодня мы можем побудить женщин отпраздновать дар спасения? Какие способы мы можем использоват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764640"/>
            <a:ext cx="8229600" cy="5650200"/>
          </a:xfrm>
          <a:prstGeom prst="rect">
            <a:avLst/>
          </a:prstGeom>
          <a:noFill/>
          <a:ln w="0">
            <a:noFill/>
          </a:ln>
        </p:spPr>
        <p:txBody>
          <a:bodyPr lIns="90000" rIns="90000" tIns="46800" bIns="46800" anchor="t">
            <a:normAutofit fontScale="98000"/>
          </a:bodyPr>
          <a:p>
            <a:pPr marL="597240" indent="-59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к вы думаете, что думала Мариам о своей жизни и о жизни Моисея? Думала ли она, что ее происхождение и дары руководителя делают ее лучше, чем «женщину из Куша»? Испытываем ли мы порой подобные переживания? Отвечая от сердца, давайте спросим себя: «Над кем я чувствую свое превосходство?» (Предоставьте несколько минут для тихого размышления).</a:t>
            </a:r>
            <a:endParaRPr b="0" lang="en-US" sz="2800" spc="-1" strike="noStrike">
              <a:solidFill>
                <a:srgbClr val="000000"/>
              </a:solidFill>
              <a:latin typeface="Arial"/>
            </a:endParaRPr>
          </a:p>
          <a:p>
            <a:pPr marL="597240" indent="-59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чему только Мариам была наказана, а Аарон нет? Могла ли она быть зачинщиком осужд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457200" y="659880"/>
            <a:ext cx="8229600" cy="572148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е уроки мы можем извлечь из опыта Мариам об осуждении, особенно, руководителей и/или их супруг/ов?</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риам приняла свое наказание и пережила его смиренно. Что бы мы с вами чувствовали, если бы получили такой «больничный» на неделю. Использовали бы мы это время, чтобы построить взаимоотношения с Богом или провели его, жалуясь на нашу ситуаци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51912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4. </a:t>
            </a:r>
            <a:r>
              <a:rPr b="1" lang="ru-RU" sz="3600" spc="-1" strike="noStrike">
                <a:solidFill>
                  <a:srgbClr val="333399"/>
                </a:solidFill>
                <a:latin typeface="Futura Md BT"/>
              </a:rPr>
              <a:t>История Мелхолы</a:t>
            </a:r>
            <a:br>
              <a:rPr sz="3600"/>
            </a:br>
            <a:r>
              <a:rPr b="1" lang="en-US" sz="2800" spc="-1" strike="noStrike">
                <a:solidFill>
                  <a:srgbClr val="333399"/>
                </a:solidFill>
                <a:latin typeface="Futura Md BT"/>
              </a:rPr>
              <a:t>(I </a:t>
            </a:r>
            <a:r>
              <a:rPr b="1" lang="ru-RU" sz="2800" spc="-1" strike="noStrike">
                <a:solidFill>
                  <a:srgbClr val="333399"/>
                </a:solidFill>
                <a:latin typeface="Futura Md BT"/>
              </a:rPr>
              <a:t>Цар</a:t>
            </a:r>
            <a:r>
              <a:rPr b="1" lang="en-US" sz="2800" spc="-1" strike="noStrike">
                <a:solidFill>
                  <a:srgbClr val="333399"/>
                </a:solidFill>
                <a:latin typeface="Futura Md BT"/>
              </a:rPr>
              <a:t>. 18:20-29; 19:11-17; </a:t>
            </a:r>
            <a:r>
              <a:rPr b="1" lang="ru-RU" sz="2800" spc="-1" strike="noStrike">
                <a:solidFill>
                  <a:srgbClr val="333399"/>
                </a:solidFill>
                <a:latin typeface="Futura Md BT"/>
              </a:rPr>
              <a:t>2 Цар.</a:t>
            </a:r>
            <a:r>
              <a:rPr b="1" lang="en-US" sz="2800" spc="-1" strike="noStrike">
                <a:solidFill>
                  <a:srgbClr val="333399"/>
                </a:solidFill>
                <a:latin typeface="Futura Md BT"/>
              </a:rPr>
              <a:t> 6:16-23)</a:t>
            </a:r>
            <a:r>
              <a:rPr b="0" lang="en-US" sz="3600" spc="-1" strike="noStrike">
                <a:solidFill>
                  <a:srgbClr val="333399"/>
                </a:solidFill>
                <a:latin typeface="Futura Md BT"/>
              </a:rPr>
              <a:t> </a:t>
            </a:r>
            <a:endParaRPr b="0" lang="en-US" sz="3600" spc="-1" strike="noStrike">
              <a:solidFill>
                <a:srgbClr val="000000"/>
              </a:solidFill>
              <a:latin typeface="Arial"/>
            </a:endParaRPr>
          </a:p>
        </p:txBody>
      </p:sp>
      <p:sp>
        <p:nvSpPr>
          <p:cNvPr id="113"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тория Мелхолы очень трагична. Ее гнев возрос, когда она осознала, что всегда была всего лишь чьей-то пешкой. Она была первой царевной, а затем царицей, но ее потенциал как руководителя использовался отцом только для осуществления личных планов. Затем ее использовал Давид, чтобы отомстить Саулу. Он взял ее в жены, но не по любви, а как победный трофе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18"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лхола, по своему первородству, была наделена правом на руководство. Как вы думаете, сложнее руководить, когда от вас ожидают этого? Почему?</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очарование в любимом человеке сломало Мелхолу и привело к недоверию и отчаянию. Мелхола ожидала, что Давид вернется и спасет ее от Саула, как однажды она спасла Давида от Саула. Как современная женщина может научиться не рассчитывать на то, что кто-нибудь спасет ее? Как женщины-руководители могут справиться с тем, что некоторые люди могут разочаровывать и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Franklin Gothic Book"/>
              </a:rPr>
              <a:t>        </a:t>
            </a:r>
            <a:r>
              <a:rPr b="1" lang="ru-RU" sz="2400" spc="-1" strike="noStrike">
                <a:solidFill>
                  <a:srgbClr val="000000"/>
                </a:solidFill>
                <a:latin typeface="Arial"/>
              </a:rPr>
              <a:t>Мелхола была удовлетворена взаимоотношениями во втором браке, но снова борьба за власть над ее первородством оттолкнула ее от того, кто по-настоящему любил ее. Как вы думаете, для современных женщин руководителей сложно различать тех, кто дружит с ними, потому что они могут получить выгоду, и тех, кто дружит с ними и способен жертвовать собой? Какие существуют отличительные характеристики двух вышеперечисленных типов друз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5. </a:t>
            </a:r>
            <a:r>
              <a:rPr b="1" lang="ru-RU" sz="3600" spc="-1" strike="noStrike">
                <a:solidFill>
                  <a:srgbClr val="333399"/>
                </a:solidFill>
                <a:latin typeface="Futura Md BT"/>
              </a:rPr>
              <a:t>История Прискиллы</a:t>
            </a:r>
            <a:br>
              <a:rPr sz="4000"/>
            </a:br>
            <a:r>
              <a:rPr b="1" lang="en-US" sz="2400" spc="-1" strike="noStrike">
                <a:solidFill>
                  <a:srgbClr val="333399"/>
                </a:solidFill>
                <a:latin typeface="Futura Md BT"/>
              </a:rPr>
              <a:t>(</a:t>
            </a:r>
            <a:r>
              <a:rPr b="1" lang="ru-RU" sz="2400" spc="-1" strike="noStrike">
                <a:solidFill>
                  <a:srgbClr val="333399"/>
                </a:solidFill>
                <a:latin typeface="Futura Md BT"/>
              </a:rPr>
              <a:t>Деян.</a:t>
            </a:r>
            <a:r>
              <a:rPr b="1" lang="en-US" sz="2400" spc="-1" strike="noStrike">
                <a:solidFill>
                  <a:srgbClr val="333399"/>
                </a:solidFill>
                <a:latin typeface="Futura Md BT"/>
              </a:rPr>
              <a:t> 18-19; </a:t>
            </a:r>
            <a:r>
              <a:rPr b="1" lang="ru-RU" sz="2400" spc="-1" strike="noStrike">
                <a:solidFill>
                  <a:srgbClr val="333399"/>
                </a:solidFill>
                <a:latin typeface="Futura Md BT"/>
              </a:rPr>
              <a:t>Рим</a:t>
            </a:r>
            <a:r>
              <a:rPr b="1" lang="en-US" sz="2400" spc="-1" strike="noStrike">
                <a:solidFill>
                  <a:srgbClr val="333399"/>
                </a:solidFill>
                <a:latin typeface="Futura Md BT"/>
              </a:rPr>
              <a:t>. 16:3-4; I </a:t>
            </a:r>
            <a:r>
              <a:rPr b="1" lang="ru-RU" sz="2400" spc="-1" strike="noStrike">
                <a:solidFill>
                  <a:srgbClr val="333399"/>
                </a:solidFill>
                <a:latin typeface="Futura Md BT"/>
              </a:rPr>
              <a:t>Кор</a:t>
            </a:r>
            <a:r>
              <a:rPr b="1" lang="en-US" sz="2400" spc="-1" strike="noStrike">
                <a:solidFill>
                  <a:srgbClr val="333399"/>
                </a:solidFill>
                <a:latin typeface="Futura Md BT"/>
              </a:rPr>
              <a:t>. 16:19; II </a:t>
            </a:r>
            <a:r>
              <a:rPr b="1" lang="ru-RU" sz="2400" spc="-1" strike="noStrike">
                <a:solidFill>
                  <a:srgbClr val="333399"/>
                </a:solidFill>
                <a:latin typeface="Futura Md BT"/>
              </a:rPr>
              <a:t>Тим</a:t>
            </a:r>
            <a:r>
              <a:rPr b="1" lang="en-US" sz="2400" spc="-1" strike="noStrike">
                <a:solidFill>
                  <a:srgbClr val="333399"/>
                </a:solidFill>
                <a:latin typeface="Futura Md BT"/>
              </a:rPr>
              <a:t>. 4:19)</a:t>
            </a:r>
            <a:endParaRPr b="0" lang="en-US" sz="2400" spc="-1" strike="noStrike">
              <a:solidFill>
                <a:srgbClr val="000000"/>
              </a:solidFill>
              <a:latin typeface="Arial"/>
            </a:endParaRPr>
          </a:p>
        </p:txBody>
      </p:sp>
      <p:sp>
        <p:nvSpPr>
          <p:cNvPr id="123" name="PlaceHolder 2"/>
          <p:cNvSpPr>
            <a:spLocks noGrp="1"/>
          </p:cNvSpPr>
          <p:nvPr>
            <p:ph/>
          </p:nvPr>
        </p:nvSpPr>
        <p:spPr>
          <a:xfrm>
            <a:off x="519120" y="20718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скилла должна была быть духовно сильной женщиной, обладающей дарами руководства. В Новом Завете упоминается об этой супружеской паре четыре раз. И все четыре раза имя Прискиллы упоминается вместе с именем Акилы. Вероятно, этот факт подчеркивает ее способности как руководител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324000" y="4759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Характерные особенности женщин в Библии</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гда мы читаем повествования и исторические доказательства некоторых характерных черт библейских женщин, возможно, они покажутся нам обыкновенн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глуп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слаб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неуравновешенн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абсолютно не привлекательны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26" name="PlaceHolder 2"/>
          <p:cNvSpPr>
            <a:spLocks noGrp="1"/>
          </p:cNvSpPr>
          <p:nvPr>
            <p:ph/>
          </p:nvPr>
        </p:nvSpPr>
        <p:spPr>
          <a:xfrm>
            <a:off x="395280" y="1600200"/>
            <a:ext cx="813744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скила и Акила покинули Коринф вместе с апостолом Павлом и направились в Ефес. Как вы думаете, как складываются отношения, если супруги являются равными руководителями? Как вы думаете, какие могут быть «за и против», когда один руководитель зарабатывать деньги на проживание, а другой продолжает руководящее служение?</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вященное Писание рассказывает нам, что Акила и Прискилла обучали Аполлоса. Должно быть они были успешными учителями, поскольку Аполлос стал впоследствии верным служителем. Как вы думаете, как Аполлос относился к тому, что его наставляют женщина и мужчина? Почему они наставляли его наедин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PlaceHolder 1"/>
          <p:cNvSpPr>
            <a:spLocks noGrp="1"/>
          </p:cNvSpPr>
          <p:nvPr>
            <p:ph/>
          </p:nvPr>
        </p:nvSpPr>
        <p:spPr>
          <a:xfrm>
            <a:off x="457200" y="1052640"/>
            <a:ext cx="77868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ждый раз, когда упоминаются супруги, их имена упоминаются вместе. Означает ли это, что для апостола Павла служение Прискиллы равнозначно служению мужа? Почему?</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авел говорит в послании Римлянам, что Прискилла и Акила рисковали жизнью ради него. Какую поддержку и доверие может привнести в служение руководителей церкви такое признание и высокая оценка служения женщин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p:nvPr>
        </p:nvSpPr>
        <p:spPr>
          <a:xfrm>
            <a:off x="457200" y="9079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тории об этих духовных руководителях даны нам как «пример и написаны в наставление». Давайте будем учиться у них и ответим на Божий призыв к каждой из нас, чтобы использовать тот потенциал, который Он дал нам.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323640" y="919080"/>
            <a:ext cx="8507160" cy="4525920"/>
          </a:xfrm>
          <a:prstGeom prst="rect">
            <a:avLst/>
          </a:prstGeom>
          <a:noFill/>
          <a:ln w="0">
            <a:noFill/>
          </a:ln>
        </p:spPr>
        <p:txBody>
          <a:bodyPr lIns="90000" rIns="90000" tIns="46800" bIns="46800" anchor="t">
            <a:normAutofit/>
          </a:bodyPr>
          <a:p>
            <a:pPr marL="3430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о Бог, по Своей мудрости, зная ценность и неординарность, которой он наделил свое творение – женщину, избрал ее для славы Своей. Бог избрал женщин-руководителей таких как самарянка, чье имя никто не знает</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684000" y="1197000"/>
            <a:ext cx="727236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ог избрал Анну – неприметную, пожилую женщину, история о которой кратко записана во второй главе евангелия от Луки.</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ог избрал Рааф, женщину легкого поведения.</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ог избрал Марию, мать Иисуса Христа, которая была молодой девушкой из неизвестной семьи, живущей в деревне в Галиле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457200" y="9079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иблейские женщины стали неординарными руководителями, не потому что в них были заложены природные качества, но потому что они доверили Богу, Которому они поклонялись и служили, Богу, Который сотворил их и подарил равные с мужчинами лидерские возможности, очистил как чистое серебр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457200" y="1125000"/>
            <a:ext cx="8229600" cy="4526280"/>
          </a:xfrm>
          <a:prstGeom prst="rect">
            <a:avLst/>
          </a:prstGeom>
          <a:noFill/>
          <a:ln w="0">
            <a:noFill/>
          </a:ln>
        </p:spPr>
        <p:txBody>
          <a:bodyPr lIns="90000" rIns="90000" tIns="46800" bIns="46800" anchor="t">
            <a:normAutofit fontScale="90000"/>
          </a:bodyPr>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Притчах Соломон мудрость сравнивает с женщиной. Не маловажным является тот факт, что в социальной и религиозной жизни как Древнего Израиля, так и Новозаветней церкви к женщинам никогда не относились как к низкому классу. Они участвовали во всех праздниках и общественных богослужениях в Израиле наравне с мужчинами (Втор. 16:14, Неем. 8:2-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95280" y="1062000"/>
            <a:ext cx="822960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Контрасты истории</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исус Христос преподал нам пример в Своем служении, когда призвал на служение несколько женщин апостолов (Лк. 8:1-3), что не практиковали раввины того времени. Но более того, Христос ПОДДЕРЖАЛ их апостольство с помощью истории о том, что существует нечто более ценное, чем домашнее хозяйство (помните историю о Марии и Марфе?). Фактически, впервые Христос  как Миссия открылся женщине Самаритянк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19:40:26Z</dcterms:created>
  <dc:creator>ArraisR</dc:creator>
  <dc:description/>
  <dc:language>en-US</dc:language>
  <cp:lastModifiedBy>Irina Romashkina</cp:lastModifiedBy>
  <dcterms:modified xsi:type="dcterms:W3CDTF">2008-01-14T11:19:11Z</dcterms:modified>
  <cp:revision>23</cp:revision>
  <dc:subject/>
  <dc:title>Slide 1</dc:title>
</cp:coreProperties>
</file>